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BFEB-CC5C-4ED0-9EFC-EA96A414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BEA8-A3E8-499A-BE88-4103E4D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983-1DDC-40FC-AD2B-649ACD6A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A29-8F94-4429-A25D-911D5B62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33EC-0141-4F8C-A8A8-0305644A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7F65-D90B-41A7-9F1D-0B5EFD3E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0C75-9F8D-4249-9F95-78CED9F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8020-D216-468A-A819-7DB71637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574E-89EB-4A58-AC2F-DCE5EDDA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CC2C-1322-4CC5-8487-0CA595C8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487D-D2AE-47B9-A5C2-4C69EDBA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601-E99D-4BAE-A860-A2DDB36A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3093-682A-4D38-B29E-14D1BFE2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D97B-4E93-4A09-A12E-6DB881F9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49B-43F1-47CB-BC38-1DBA8ACE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E3D9-A841-4F24-8334-A776677F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D31A-A4A8-4740-B74F-F40EE1C92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0DE-CA95-4434-852F-1E5D4F2E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0AD-1B62-4EBC-A1CE-ADD008A1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63F-8CCB-4EB7-B833-A107065C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899E-C75A-44D0-A125-0C9777D1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EA8C-E171-4933-B181-A20BAC3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332-CC1A-4D80-8194-BED59F44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0DD-78BE-4DE7-8A3C-8A4F9F46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8DA5-2AA3-4F5A-A5D0-C5247DB179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34DC-29C7-413F-A6CC-D41CACF778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cc00"/>
                </a:solidFill>
                <a:latin typeface="Edwardian Script ITC"/>
              </a:rPr>
              <a:t>Literature in</a:t>
            </a:r>
            <a:br>
              <a:rPr sz="8000"/>
            </a:br>
            <a:r>
              <a:rPr b="1" lang="en-US" sz="8000" spc="-1" strike="noStrike">
                <a:solidFill>
                  <a:srgbClr val="cccc00"/>
                </a:solidFill>
                <a:latin typeface="Edwardian Script ITC"/>
              </a:rPr>
              <a:t> the Tenses of Time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3581280"/>
            <a:ext cx="6792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Edwardian Script ITC"/>
              </a:rPr>
              <a:t>Unit Portfolio Presen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Garamond"/>
              </a:rPr>
              <a:t>Blesille P. Cain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Garamond"/>
              </a:rPr>
              <a:t>Leovie Corrina N. Sajo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0066"/>
                </a:solidFill>
                <a:latin typeface="Arial"/>
              </a:rPr>
              <a:t>GREAT JOB! </a:t>
            </a:r>
            <a:r>
              <a:rPr b="1" lang="en-US" sz="5400" spc="-1" strike="noStrike">
                <a:solidFill>
                  <a:srgbClr val="330066"/>
                </a:solidFill>
                <a:latin typeface="Wingdings"/>
                <a:ea typeface="Wingdings"/>
              </a:rPr>
              <a:t>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AY TO GO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Wella &amp; St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Edwardian Script ITC"/>
              </a:rPr>
              <a:t>Unit Summary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This course is designed to develop the literary skills of the Second Year High School students. The key activities are Visualizing what is happening in a Short Story and Deriving Meaning from the Picture 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small group sharing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, Expressing Appreciation of an Essay 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a reflection paper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, Pointing Out How Imagery Creates a Vivid Impression on the Reader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oral recitation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, and  Appreciating an Epic Expressive of Our Identity and Cultural Heritage </a:t>
            </a:r>
            <a:r>
              <a:rPr b="0" i="1" lang="en-US" sz="3000" spc="-1" strike="noStrike">
                <a:solidFill>
                  <a:srgbClr val="000000"/>
                </a:solidFill>
                <a:latin typeface="Garamond"/>
              </a:rPr>
              <a:t>by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composing a song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Garamond"/>
              </a:rPr>
              <a:t>CFQ’s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senti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Why is it significant to study literature, specifically Philippine literatu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Unit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How does literature shape the Filipinos as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ten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Papyrus"/>
              </a:rPr>
              <a:t>     </a:t>
            </a: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Who are the characters in the story/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Cite some imagery from the literary pie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     </a:t>
            </a: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List some moral values depicted in the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Edwardian Script ITC"/>
              </a:rPr>
              <a:t>Vision for Unit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By creating this unit, we want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Encourage the students to preserve Filipino Identity and Cultural Herit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Infuse the love of Philippine litera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Enhance the literary skills of the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During this unit, we want our students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Make connections of commonly identified “before and present” Filipino values from the literatu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Use technology in making their project/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Edwardian Script ITC"/>
              </a:rPr>
              <a:t>Project Approaches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6294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s our students work on this project, th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Relate the literary pieces in authentic life experi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Collaborate with their classmates and some members of the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Present and discuss their creative outputs in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259092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Edwardian Script ITC"/>
              </a:rPr>
              <a:t>21</a:t>
            </a:r>
            <a:r>
              <a:rPr b="1" lang="en-US" sz="6000" spc="-1" strike="noStrike" baseline="30000">
                <a:solidFill>
                  <a:srgbClr val="330066"/>
                </a:solidFill>
                <a:latin typeface="Edwardian Script ITC"/>
              </a:rPr>
              <a:t>st</a:t>
            </a:r>
            <a:r>
              <a:rPr b="1" lang="en-US" sz="6000" spc="-1" strike="noStrike">
                <a:solidFill>
                  <a:srgbClr val="330066"/>
                </a:solidFill>
                <a:latin typeface="Edwardian Script ITC"/>
              </a:rPr>
              <a:t> Century Learning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tudents will develop higher-order and 2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century skills in this unit as the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Utilize the Essential, Unit and Content Questions to guide their understanding on the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Write a reflective composition from th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99"/>
                </a:solidFill>
                <a:latin typeface="Garamond"/>
              </a:rPr>
              <a:t>Articulate the various Imagery found in the short sto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426708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477120" y="335268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0066"/>
                </a:solidFill>
                <a:latin typeface="Edwardian Script ITC"/>
              </a:rPr>
              <a:t>Gauging Student Needs Assessments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Use CFQs to lea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Students’ view on the preservation of Filipino cultural identity, heritage and valu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Adequate information on the elements of a literary form such as short story, essay and ep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Assess 21st Century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Ability to make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Garamond"/>
              </a:rPr>
              <a:t>connections of commonly identified “before and present” Filipino values from the literatu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0066"/>
                </a:solidFill>
                <a:latin typeface="Edwardian Script ITC"/>
              </a:rPr>
              <a:t>Gauging Student Needs Assessments</a:t>
            </a:r>
            <a:endParaRPr b="1" lang="en-US" sz="5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We can use the information from these assessments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 </a:t>
            </a: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Handle common mistakes/error done by the students like in identifying elements of any literary pie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Provide even more meaningful learning experience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aramond"/>
              </a:rPr>
              <a:t>Students can use the information from these assessments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Enhance and practice their literary skills such as visualizing what happens in a story or pointing out image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687"/>
              </a:spcBef>
              <a:buClr>
                <a:srgbClr val="669999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9999"/>
                </a:solidFill>
                <a:latin typeface="Garamond"/>
              </a:rPr>
              <a:t>Motivate themselves in learning literature enthusiastical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168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676840" y="3276720"/>
            <a:ext cx="3467160" cy="3438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66"/>
                </a:solidFill>
                <a:latin typeface="Edwardian Script ITC"/>
              </a:rPr>
              <a:t>Requests for Feedback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Need ways to help students understand the in-depth meanings of the selected literary pi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Need help in assessing students’ higher-order thinking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Need assistance in making the less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    </a:t>
            </a:r>
            <a:r>
              <a:rPr b="0" lang="en-US" sz="3000" spc="-1" strike="noStrike">
                <a:solidFill>
                  <a:srgbClr val="669999"/>
                </a:solidFill>
                <a:latin typeface="Garamond"/>
              </a:rPr>
              <a:t>more interesting and fu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5:38:34Z</dcterms:created>
  <dc:creator>CISO</dc:creator>
  <dc:description/>
  <dc:language>en-US</dc:language>
  <cp:lastModifiedBy>nave1386</cp:lastModifiedBy>
  <dcterms:modified xsi:type="dcterms:W3CDTF">2010-09-02T20:11:05Z</dcterms:modified>
  <cp:revision>43</cp:revision>
  <dc:subject/>
  <dc:title>Literature in The Tenses of Time </dc:title>
</cp:coreProperties>
</file>